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B13-B8B4-42B2-97BA-BCCA778F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1ED-E8EB-429D-8018-0C5FA718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C01-50D5-4F18-9C16-21C9CBF3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090-1AA0-451D-A5E8-C26B307B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157C-36DB-4E42-88D6-660F9B0F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1FAD-BBDD-4C32-9E78-7B41D17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A240-AB4F-4D13-BCDB-F9C3D80C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8691-874B-4188-8DE9-18D54208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EA65-DD95-4ADA-BCA1-7E4C28C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1D1E-D5D9-4A3B-95A3-8ABAFC28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9715-24A5-4FC7-9164-5FFE0FA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215-4153-477E-B8E5-0630050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2E56-89C1-4740-90DB-1D02471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0C7F-3E0E-4E57-A5AA-BBE95148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334D-5672-4CF2-B1EB-D656576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EB6-928E-40B1-9E94-5D310B26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0541-DDD1-4EC4-A47E-6962CAA5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5ED-2A60-4D72-AB40-16A3E36B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B44-D90C-4D62-BC54-ED8FCD9C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18B-C8B5-442B-BC47-D12FF5ED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A04-6D0C-40B0-823C-DF877CB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902-F15F-437E-A8E4-37FC3EF3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6CD-9173-4B05-9D4B-5CFD278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355-2AE7-4CF7-BC10-450BA3D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0C8D-B14E-4E9E-8710-1DAE2A3471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8561-53EA-4143-A137-9ECDDC920C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923760" cy="690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467480" y="2286000"/>
            <a:ext cx="9241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s of spee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yside School is Falling Dow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eries of Unfortunate Events: Book 13 The E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uble digit 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zz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ystery box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ob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east reg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ic str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tended respons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terrariu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ing class partie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the U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690640"/>
            <a:ext cx="3809880" cy="284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ying att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listen better by being quie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rite neater by taking my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pay attention more by focusing on what we are doing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7:09:13Z</dcterms:modified>
  <cp:revision>29</cp:revision>
  <dc:subject/>
  <dc:title>Welcome Mom and Dad!</dc:title>
</cp:coreProperties>
</file>